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2A83-3158-47FA-BF78-0B84DB1FE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B6A4-ACC3-4F08-B952-77BAA52F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F893-F528-4526-B38B-C7892D4A4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F238-EECE-4D2B-A7F3-B08686EF6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408B4-A0C0-4458-802B-19399E22B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2EB8-D2A8-4F30-BDC6-A5D7E37F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9E4E2-9FE0-4F7A-8EAF-EACA2284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CDDF-3841-4ABB-9DB4-92FB2EE2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687F-515B-4F8E-9C46-6246B13C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3FD92-E367-4AC3-A6DF-7BDE2CA6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6762-7D08-4AD0-8896-DA98C328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899B-E5C9-4537-B7D9-810E08FE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C81D-B738-475B-A255-8668C7B2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C0F1F-EADD-4029-B9C4-48503267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EA603-7168-40D5-8037-19765975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72C0-C93E-44D5-BFB0-6BFA38D0D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DD30-F97E-44FB-8394-370B6C326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E035-785A-46BC-8997-BDE752BD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D166-2222-4BB9-AEBD-EB908906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B733-7FA8-4433-9D27-73975291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4803-6B16-4239-BF8E-E1CC40AA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7B4C-824C-46B7-94EA-DCD999DD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01C3-E670-4B13-B678-BFA94945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81A8-7702-4BAC-A7D5-501CDE79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97CA-0629-4854-8F34-18C4612FE2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02EE-42E3-45B5-8533-D6D77CE41E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jec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ld two different size spheres in your hand and predict which is heavi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n weigh each sphere and determine which is actually heavi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s your prediction correct? If not, why do you think you got it wrong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ffff"/>
                </a:solidFill>
                <a:latin typeface="Tahoma"/>
              </a:rPr>
              <a:t>Lesson #48</a:t>
            </a:r>
            <a:br>
              <a:rPr sz="1800"/>
            </a:br>
            <a:r>
              <a:rPr b="1" lang="en-US" sz="1800" spc="-1" strike="noStrike">
                <a:solidFill>
                  <a:srgbClr val="e5ffff"/>
                </a:solidFill>
                <a:latin typeface="Tahoma"/>
              </a:rPr>
              <a:t>Topic:  Pressure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763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bjectives: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After this class I will be able to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e Pressu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cribe the difference between force and pressu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8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/17/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5715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gnment: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actice Pressure Problem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47242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arm U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hat is pressur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is pressure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0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TPChart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ame thing as for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ame thing as tens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mount of force in a given are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my brain feels every time I enter this classroom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94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essu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sure is defined as Force per Are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sure has units of N/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e call this a Pascal (Pa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s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teel ball exerts more pressure than the tennis ball, even though the tennis ball is heavi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es a scale read more weight when you stand on one foot or tw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505320" y="1905120"/>
                <a:ext cx="144756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ressure Practic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full coffee mug has a mass of 0.6kg and an empty mug has a mass of 0.3k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Which mug, the full one or the empty one, applies a greater pressure on the tabl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) If the full mug applies a pressure of 1200N/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what is the area of the bottom of the mu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) What is the radius of the coffee mu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ressure Practic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wo women walk across an open grass field. Each woman has a mass of 60kg but Miss Culp is wearing spike heels that have an area of 0.4c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ile Miss Vance wears wide heels with an area of 6c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Calculate how much pressure each woman will apply on the groun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) What can Miss Culp do to help her sink less into the ground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ressure Practic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0.5kg spherical water balloon is sitting on the kitchen table. The bottom of the balloon flattens until the pressure on the bottom is reduced to 630 N/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What is the area of the flat spot on the bottom of the balloo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) What is the radius of the flat spo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ewitt Pressure Video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the earth’s atmosphere thick or thi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is the atmospheric pressure at sea level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the can being sucked in or pushed i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y doesn’t the plunger come off the chai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are the 2 ways Hewitt blows up the balloo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is the physics behind drinking out of a straw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y does the jar stick to Hewitt’s head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y do the cans go togeth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y does the ping pong ball stick to the stream of wat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is the answer to the question about the boat and the pi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7:39:45Z</dcterms:created>
  <dc:creator>End User</dc:creator>
  <dc:description/>
  <dc:language>en-US</dc:language>
  <cp:lastModifiedBy>End User</cp:lastModifiedBy>
  <dcterms:modified xsi:type="dcterms:W3CDTF">2007-07-17T14:44:30Z</dcterms:modified>
  <cp:revision>81</cp:revision>
  <dc:subject/>
  <dc:title>Lesson #1 8/29/06 </dc:title>
</cp:coreProperties>
</file>